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963-2D14-4F2A-A4CE-1309158C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861-63EB-476F-AB55-7F4A02F5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5227F-3FB6-49CD-853C-EB638BEB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1BFF3-04AF-4DFB-B2D0-B2E3E05B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496D7-01E4-451F-9D2E-01E13F98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5FF4C-0BDA-47CB-A43E-0661D06D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BE8D8-580E-496C-AA1C-D6AF0598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12AC8-9698-463D-BAAA-E4F9F5EF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2A95E-47CD-4969-878A-27A2ACD9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B0BBD-8948-463D-95F3-86AA0827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9280C-7AE5-448A-87E2-452F5838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58C53-3657-4B93-92F1-921846CC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4A0-EB03-4D0F-8134-9D0C1D29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B358B-84CF-4A1E-9AD7-BEF08004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7E8F7-D92C-4234-97FC-38C17122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B2C47-028C-456B-9A7A-1B88266E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05212-BB7B-4FCE-A442-46B81FC7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00DB7-2BAD-41F9-A10C-B59FD151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809F6-6F75-4C6E-A890-66A0D440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471E9-1356-44C2-B67F-7CDD78C4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1E06F-48F3-444E-A003-151E3674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9BA34-1C21-4801-BB36-7D594BF8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9F52E-8963-4BF7-A3DC-CD935174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5C5-76A2-4138-8C5D-7D866E18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14A2D-8CEF-4866-B212-8BB749A1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BF478-7435-4C6C-8596-357D38DD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ABDB2-6D8E-4F1D-8F8D-65EE9BBA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C72AC-8BE6-4F75-9BD6-A5A34CDA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333C9-1B69-4F35-A74B-A2897FBF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B178D-DB53-448A-B0E0-357379B1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53CA9-057B-446D-B1BE-81811E29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7D295-24EE-4D33-8339-BC6D85B9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48350-C767-482F-9DDC-F8C9AC00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94776-E94B-4488-BD78-0295812A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9B180-D0DE-4C1A-8666-19CA8727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C9888-0300-427D-82DB-CB5F5F54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2AC47-0303-4E97-AD48-83F34047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E6E45-B75C-4902-AB62-1F1E2FE7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55F08-28A6-472E-9B62-8437C2B0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8DD9D-E903-406B-926B-DE5B4349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38875-C778-4307-A39F-3BE2B7F9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CA5FA-7E49-48AC-A3A7-85EFC51B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66D4D-4F31-4B4C-990A-03A4285F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A9AE3-D731-4056-B6DC-7F140BAA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0A68A-5337-4811-9BAA-B501CDF3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F2B67-400E-4286-9FB5-FC51CFD6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30496-647D-4EDE-88E2-29AC76A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47D66-835A-4993-B56B-99368289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B326E-F1A1-4460-853B-215D2A3B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9D3D8-95B2-4F85-A9AD-2A68B395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BCD5E-CE87-44F8-A556-3D306518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BF0C2-61D2-4237-A322-9A248FEB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DE8F4-2A0F-4726-94BB-EB696F6C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351D2-9555-4057-96BC-A1645AC0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A7949-CC91-4E60-A02A-411BE092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E9F04-C6FA-4E66-B457-9D891174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F91-51F4-4159-89CC-C3ECDF8F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B8FC0-C6FB-4E78-AC85-2C328008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C802A-BA5E-49E4-9B92-04BD928A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58669-FC2F-4D9B-AB06-7C303FC3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983CA-A0EA-4F02-B44A-B6D8A122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2CE23-6346-4102-8A14-8407379E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2A61A-E9C0-4390-8F2F-4BDF29C3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C15B-96DE-45E9-846A-25D0FC0B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4012B-AFBF-44DC-B94C-D1080AA5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2766-C8E3-4AE4-AA86-514CB089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9FF4-8D54-46F5-B66B-902DB5E5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F9E-152A-4CE6-8337-8DC007A0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314B-E432-4256-B4AE-96E87B42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B8D2-195B-41B2-BCB0-D9E9EECF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16E8-7EF2-4FA8-A1AE-7B2C4B5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A55F-EAAC-4F84-B77F-2C2E03E0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C6F4-D4D4-4375-BEB4-55D9D9FE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FD3A-1AD2-49B0-9F57-84124396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0DF7-151F-493B-B82F-0EF40AA6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555E-2E5E-4FF1-AEF0-385BD73E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DF650-C273-48FC-90DE-0D237D75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9ECC-7BE3-4D1F-8883-C10EAD15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156-1393-4E1E-85C8-8ECE54E3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4268-6C7F-48A8-8DDD-22113D8A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E23F-A8E7-4598-A4A7-7281AB60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67717-60A8-4B92-A96B-8CFBCE7E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3BED5-6410-4160-8892-D9798D83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97D78-19B5-4272-ADD0-C8F3011F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53BD4-1A3F-4F4B-9A19-C65E899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619D-A325-4F72-ADF4-760C404A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75672-C7BA-4FC2-BA35-1A210D8E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D8B68-8FE1-4267-BA4A-F9C23E18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89223-61C3-4586-B3A6-F2A4ACAC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2F8-76C3-4C42-95FA-34C3928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67BE5-6089-4E6E-AFF7-1CA640F1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7D78C-F60E-4335-974E-D756E42F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AE4A-16BD-4276-B9BF-779BDEEE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0DFD7-6825-45A8-9365-1747D3A3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93BFA-880E-4BF0-99BD-FC3A5790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BFE1B-BA32-4826-9DB8-D21E6054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309B7-EBCF-454A-8DF5-FE5BD51F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F1C0F-72F7-461F-87D9-2615BB56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30FC5-B843-461F-BC02-3B58FF21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AF8EB-822D-4BEB-A726-895A66A6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D43-5B93-4F13-9928-149D6C8D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A5E72-3EA8-490D-8219-6C6C1965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5FD52-6178-4B7E-A1ED-D80DEBE6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2DB67-9D39-480B-855B-B0AAF627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D8E67-84AE-40B1-82A4-891724D8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14DE-E759-44B8-8079-D935E7CF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35F54-D47E-4059-AAA5-D1BBD8DD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C743C-DA31-45C4-AF2A-DD5EF5F7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D5D5B-9E75-4AF1-804F-23B8EAB1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9FB33-451D-4C0B-9711-17744FD5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CDB29-45B7-49E8-BFB6-6EFA28BD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580-6BCC-46E1-B3B2-464D08E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5FE9C-1CBC-4935-8F9A-9273A6F8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8091B-91EC-43A1-8901-E46DA14B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D868F-2B7A-4727-9866-47C7EB42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27574-D7A4-4237-822F-4AFAC047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BD753-84CD-48AC-895A-C3BE3E65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53119-B792-4CBA-8734-FD9DA69A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20ED9-EFF7-4C14-9CF6-2993B627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E8DCF-1762-4DE2-84AD-60832E30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C0694-C389-497B-B879-B58F9FF3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1E148-BFAD-4F9A-807A-57E5FF80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9E2-FE45-43EA-9AB8-A71295D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4E99-2DB1-4EC6-BC01-84EE6AC8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16BE9-076E-4FDD-B23B-91724CA5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99B96-7A93-48B3-B8C0-348F26CA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DAF4-5D99-41C1-9847-BBEE5058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F3302-2F40-4527-A307-F4F7F9C1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2DDFC-33EE-4024-8EEF-168EC096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636F0-F12F-4127-86C5-E6A0BF65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0F703-E606-4960-91C4-FED851B7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BCCF4-0DA1-4B76-813A-19D32077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B55C4-0768-450A-9BE0-61364BD1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3CD-592E-431C-A7F7-ED6BF59B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F8A53-85C6-4624-AD89-465035C7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EAE85-3E29-4AB1-9072-765578B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FAC11-F730-4762-AE7E-63A87F61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3173A-62E9-475B-9A63-A109D5B1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88C44-3A86-4BCB-A7AE-4666A0AE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A4B80-E9E4-4702-A4F7-4E808535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8793A-0599-4C29-A8CB-B95817A7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F8337-6A5E-4CCB-BC06-810DDF1E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4B413-B067-4B84-8ABA-35C47406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ED4E6-7844-444D-898A-6DB4531C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766F-0A98-4591-8AD7-4E0131936B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EBC0-549F-47AD-8F67-FFFB44C6D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5840-87F5-4C27-8949-A947DBA7FF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B8E1-DDDE-4481-A6A1-32F3891B52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2F80-75C2-4B90-9655-9E626938A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E92C-0090-4B74-A50D-70C042679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4839-A715-4F8F-8132-5E0730DA0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58DD-36EE-4F68-A0FC-B4FC70920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6302-97D3-4618-BA7D-58723EFE9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C710-B3D0-4592-9DA3-5CE3C9596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48A4-A9DD-482E-A45B-B2EF17719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5833-3B63-4CDE-8113-652CBCB775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Admin\Рабочий стол\i[4]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8920" y="2000160"/>
            <a:ext cx="8713800" cy="45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5d93ff"/>
                </a:solidFill>
                <a:latin typeface="Monotype Corsiva"/>
              </a:rPr>
              <a:t>Колокольные звоны</a:t>
            </a:r>
            <a:endParaRPr b="0" lang="en-US" sz="1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C:\Documents and Settings\Admin\Мои документы\Мои рисунки\7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ahoma"/>
              </a:rPr>
              <a:t>КОЛОКО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дарный самозвучный музыкальный (сигнальный)       инстру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опрокинутая чаша с малиновым звоном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дин из древнейших символов православной Руси, а ныне примета её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таллическая чаша , перевернутая вверх дном, внутри которой по центру подвешен металлический  «язык» ; при их взаимном перемещении происходит удар о стенку чаши, и та издает зву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сновная част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Колокола – целител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Легенды, предания, сказы о колоколах в фольклоре славянских народ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Виды и звоны колоко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Анализ оперных произведений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инки, Мусоргского, Римского-Корсакова,  позволяющих, наряду с представлением о различных способах воссоздания звонных эффектов, выявить драматургические функции колокольности в крупной музыкальной компози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92980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Колокола – целители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Легенды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, сказы, предания  о колоколах и их чудесных свойств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9" name="Picture 4" descr="C:\Documents and Settings\Admin\Мои документы\Мои рисунки\_MG_0021.jpg"/>
          <p:cNvPicPr/>
          <p:nvPr/>
        </p:nvPicPr>
        <p:blipFill>
          <a:blip r:embed="rId1"/>
          <a:stretch/>
        </p:blipFill>
        <p:spPr>
          <a:xfrm>
            <a:off x="1071720" y="2071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C:\Documents and Settings\Admin\Мои документы\Мои рисунки\min2_1236010210-86413.jpg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6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Православные звоны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2714400"/>
            <a:ext cx="86868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 </a:t>
            </a:r>
            <a:r>
              <a:rPr b="1" lang="ru-RU" sz="48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I</a:t>
            </a:r>
            <a:r>
              <a:rPr b="1" lang="ru-RU" sz="4800" spc="-1" strike="noStrike">
                <a:solidFill>
                  <a:srgbClr val="0070c0"/>
                </a:solidFill>
                <a:latin typeface="Tahoma"/>
              </a:rPr>
              <a:t>. Благовест</a:t>
            </a:r>
            <a:br>
              <a:rPr sz="4800"/>
            </a:br>
            <a:r>
              <a:rPr b="1" lang="ru-RU" sz="4800" spc="-1" strike="noStrike">
                <a:solidFill>
                  <a:srgbClr val="0070c0"/>
                </a:solidFill>
                <a:latin typeface="Tahoma"/>
              </a:rPr>
              <a:t>     </a:t>
            </a: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II</a:t>
            </a:r>
            <a:r>
              <a:rPr b="1" lang="ru-RU" sz="4800" spc="-1" strike="noStrike">
                <a:solidFill>
                  <a:srgbClr val="0070c0"/>
                </a:solidFill>
                <a:latin typeface="Tahoma"/>
              </a:rPr>
              <a:t>. Перезвон, перебор</a:t>
            </a:r>
            <a:br>
              <a:rPr sz="4800"/>
            </a:br>
            <a:r>
              <a:rPr b="1" lang="ru-RU" sz="4800" spc="-1" strike="noStrike">
                <a:solidFill>
                  <a:srgbClr val="0070c0"/>
                </a:solidFill>
                <a:latin typeface="Tahoma"/>
              </a:rPr>
              <a:t>     </a:t>
            </a: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III</a:t>
            </a:r>
            <a:r>
              <a:rPr b="1" lang="ru-RU" sz="4800" spc="-1" strike="noStrike">
                <a:solidFill>
                  <a:srgbClr val="0070c0"/>
                </a:solidFill>
                <a:latin typeface="Tahoma"/>
              </a:rPr>
              <a:t>. Собственно звон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ahoma"/>
              </a:rPr>
              <a:t>Количество колоколов в звоннице от 5 до 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5" name="Picture 6" descr="C:\Documents and Settings\Admin\Мои документы\Мои рисунки\4226.jpg"/>
          <p:cNvPicPr/>
          <p:nvPr/>
        </p:nvPicPr>
        <p:blipFill>
          <a:blip r:embed="rId1"/>
          <a:stretch/>
        </p:blipFill>
        <p:spPr>
          <a:xfrm>
            <a:off x="4429080" y="1643040"/>
            <a:ext cx="4410000" cy="50007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C:\Documents and Settings\Admin\Мои документы\Мои рисунки\untitled.bmp"/>
          <p:cNvPicPr/>
          <p:nvPr/>
        </p:nvPicPr>
        <p:blipFill>
          <a:blip r:embed="rId2"/>
          <a:stretch/>
        </p:blipFill>
        <p:spPr>
          <a:xfrm>
            <a:off x="428760" y="1643040"/>
            <a:ext cx="3786120" cy="500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8725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Оперы русских композиторов - классиков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207180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.И. Глинка «Жизнь за цар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.П. Мусоргский «Хованщин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.П. Мусоргский «Борис Годуно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.А. Римский-Корсаков «Псковитян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.А. Римский-Корсаков «Сказание о невидимом граде Китеже и Деве Феврон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C:\Documents and Settings\Admin\Мои документы\Мои рисунки\thv-14.jpg"/>
          <p:cNvPicPr/>
          <p:nvPr/>
        </p:nvPicPr>
        <p:blipFill>
          <a:blip r:embed="rId1"/>
          <a:stretch/>
        </p:blipFill>
        <p:spPr>
          <a:xfrm>
            <a:off x="-49320" y="36360"/>
            <a:ext cx="9193320" cy="68216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64396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*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спользование церковных колоколов в опере было  затруднительно, ввиду их размеров установить их могли себе позволить только крупные оперные театры, да и то только за сценой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С появлением современных оркестровых колоколов эта проблема решилась, и колокола стали использоваться в различных музыкальных постановках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Михаил Иванович Глин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2" name="Содержимое 16" descr="5NYZOCADUEX4TCAQRYXAYCAP6A1XICAQMTCY8CAYBY7MDCACDQ13TCAC7IH31CAZQ7VZRCA9TZ477CAA9RKOTCASEW8KKCA395KTJCALIPW31CAXKD83CCAQ3J7QXCAS5MWF2CARYU9IRCA4VW6FDCAJI9GQU.jpg"/>
          <p:cNvPicPr/>
          <p:nvPr/>
        </p:nvPicPr>
        <p:blipFill>
          <a:blip r:embed="rId1"/>
          <a:stretch/>
        </p:blipFill>
        <p:spPr>
          <a:xfrm>
            <a:off x="428760" y="1714680"/>
            <a:ext cx="3528720" cy="431640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3"/>
          <p:cNvSpPr/>
          <p:nvPr/>
        </p:nvSpPr>
        <p:spPr>
          <a:xfrm>
            <a:off x="3929040" y="150012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трезво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эпилоге оперы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"Жизнь за царя"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4" name="Picture 6" descr="http://im7-tub.yandex.net/i?id=103622120&amp;tov=7"/>
          <p:cNvPicPr/>
          <p:nvPr/>
        </p:nvPicPr>
        <p:blipFill>
          <a:blip r:embed="rId2"/>
          <a:stretch/>
        </p:blipFill>
        <p:spPr>
          <a:xfrm>
            <a:off x="4214880" y="3500280"/>
            <a:ext cx="4143240" cy="242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Опера "Жизнь за царя"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 Эпилог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Хор «Славься» сопровождается могучим перезвоном колоко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ahoma"/>
              </a:rPr>
              <a:t>Этот гимн-марш не может быть отрешен от Красной Площади, толпы народа и колокольного зв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Tahoma"/>
              </a:rPr>
              <a:t>Финальный хор с колокольным звоном тесно сплочен с задачей музыкальной дра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http://video-tub.yandex.ru/i?&amp;tov=0&amp;id=1644023"/>
          <p:cNvPicPr/>
          <p:nvPr/>
        </p:nvPicPr>
        <p:blipFill>
          <a:blip r:embed="rId1"/>
          <a:stretch/>
        </p:blipFill>
        <p:spPr>
          <a:xfrm>
            <a:off x="4071960" y="3214800"/>
            <a:ext cx="4794120" cy="3429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ahoma"/>
              </a:rPr>
              <a:t>Модест Петрович Мусоргс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Picture 5" descr="m03030i"/>
          <p:cNvPicPr/>
          <p:nvPr/>
        </p:nvPicPr>
        <p:blipFill>
          <a:blip r:embed="rId2"/>
          <a:stretch/>
        </p:blipFill>
        <p:spPr>
          <a:xfrm>
            <a:off x="285840" y="1285920"/>
            <a:ext cx="3460680" cy="407196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3"/>
          <p:cNvSpPr/>
          <p:nvPr/>
        </p:nvSpPr>
        <p:spPr>
          <a:xfrm>
            <a:off x="4000680" y="1071720"/>
            <a:ext cx="47862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узыка утренних колоколов старинной Москвы в опере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«Хованщина»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цены венчания на царст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и смерти в опер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«Борис Годунов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Тема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Колокольные звоны в произведениях русских композиторов - классиков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8360" y="2642760"/>
            <a:ext cx="822960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Исполнитель: Салыкова Виктория Класс: 9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Научный руководитель: Воронина Ольга Николаевна, учитель музыки Тальменской средней школы №3,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Опера «Хованщина»</a:t>
            </a:r>
            <a:br>
              <a:rPr sz="4400"/>
            </a:b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Вступление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 «Рассвет на Москве – реке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23572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На сцене утренний полусвет. Главы церквей освещаются солнцем. Доносится благовест к заутре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Облик великого города невозможно представить без этого удивительного звона наполняющего воздух по мере приближения у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ahoma"/>
              </a:rPr>
              <a:t>Опера «Борис Годунов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71432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ahoma"/>
              </a:rPr>
              <a:t>Площадь в Московском кремле. Могучий звон колоколов сопровождает венчание Бориса на ц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Трагическая обреченность ощутима при появлении Бориса в сцене корон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Монолог Бориса пресекает ликующий колокольный звон, передает затаенный страх и мрачные предчув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Tahoma"/>
              </a:rPr>
              <a:t>Николай Андреевич Римский-Корсаков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2920" y="1341000"/>
            <a:ext cx="403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олокольный гул </a:t>
            </a:r>
            <a:r>
              <a:rPr b="1" lang="ru-RU" sz="2800" spc="-1" strike="noStrike">
                <a:solidFill>
                  <a:srgbClr val="00b050"/>
                </a:solidFill>
                <a:latin typeface="Tahoma"/>
              </a:rPr>
              <a:t>Китеж-град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оржественный колокольный звон </a:t>
            </a: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в  «Псковитянке»</a:t>
            </a:r>
            <a:r>
              <a:rPr b="0" lang="ru-RU" sz="2800" spc="-1" strike="noStrike">
                <a:solidFill>
                  <a:srgbClr val="0070c0"/>
                </a:solidFill>
                <a:latin typeface="Tahoma"/>
              </a:rPr>
              <a:t>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7" name="Picture 4" descr="C:\Documents and Settings\Admin\Мои документы\Мои рисунки\34_4_6.jpg"/>
          <p:cNvPicPr/>
          <p:nvPr/>
        </p:nvPicPr>
        <p:blipFill>
          <a:blip r:embed="rId1"/>
          <a:stretch/>
        </p:blipFill>
        <p:spPr>
          <a:xfrm>
            <a:off x="4714920" y="3860640"/>
            <a:ext cx="3673440" cy="26546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r03013i"/>
          <p:cNvPicPr/>
          <p:nvPr/>
        </p:nvPicPr>
        <p:blipFill>
          <a:blip r:embed="rId2"/>
          <a:stretch/>
        </p:blipFill>
        <p:spPr>
          <a:xfrm>
            <a:off x="611280" y="1989000"/>
            <a:ext cx="355608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Опера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«Сказание о невидимом граде Китеже и Деве Феврони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85480" y="2571840"/>
            <a:ext cx="4786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Фин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аздничный красный звон слышится с колоколен невидимого Китеж-гра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1" name="Picture 4" descr="C:\Documents and Settings\Admin\Мои документы\Мои рисунки\1323023.jpg"/>
          <p:cNvPicPr/>
          <p:nvPr/>
        </p:nvPicPr>
        <p:blipFill>
          <a:blip r:embed="rId1"/>
          <a:stretch/>
        </p:blipFill>
        <p:spPr>
          <a:xfrm>
            <a:off x="5072040" y="2786040"/>
            <a:ext cx="385776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Опера «Псковитянка»</a:t>
            </a:r>
            <a:br>
              <a:rPr sz="4400"/>
            </a:br>
            <a:r>
              <a:rPr b="1" lang="ru-RU" sz="4400" spc="-1" strike="noStrike">
                <a:solidFill>
                  <a:srgbClr val="00b0f0"/>
                </a:solidFill>
                <a:latin typeface="Tahoma"/>
              </a:rPr>
              <a:t>2 карт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6160" y="1642680"/>
            <a:ext cx="48578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Раздаются удары колокола – набат сзывает псковичей на веч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ahoma"/>
              </a:rPr>
              <a:t>Смятение и тревога охватывают пскович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Колокола</a:t>
            </a: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 гудят все громче, на площади появляется сам царь Иван Васильевич. Народ падает ниц с мольбой о пощад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4" name="Picture 7" descr="C:\Documents and Settings\Admin\Мои документы\Мои рисунки\pskovityanka.jpg"/>
          <p:cNvPicPr/>
          <p:nvPr/>
        </p:nvPicPr>
        <p:blipFill>
          <a:blip r:embed="rId1"/>
          <a:stretch/>
        </p:blipFill>
        <p:spPr>
          <a:xfrm>
            <a:off x="214200" y="2143080"/>
            <a:ext cx="4071960" cy="364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Tahoma"/>
              </a:rPr>
              <a:t>Колокольный звон – это совершенно особая музыка. Она заставляет сердце биться сильнее, захватывает дух и чудесным образом затрагивает самые чувствительные струнки человеческой душ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Колокольные звоны несут в будущее культуру своих созда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Колокольные звоны - национальное достижение русской музыкальной и духовн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Прямоугольник 3"/>
          <p:cNvSpPr/>
          <p:nvPr/>
        </p:nvSpPr>
        <p:spPr>
          <a:xfrm>
            <a:off x="642960" y="14288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4043520" cy="10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КРОССВО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42920" y="785880"/>
            <a:ext cx="428652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1.Ударный самозвучный музыкальный (сигнальный)       инструмент.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Один из древнейших символов православной Руси, а ныне примета её возрожд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2. Имя царя в опере М.П.Мусоргск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Звон во все колокола трижды или звон в три прие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4. Музыкально-театральное произведен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5. Сольный номер в опе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6. Мерные удары в один большой колокол, возвещающий добрую весть о начале богослу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7. Заключительная часть опер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8. Русский композитор, основоположник русской классической музы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57200" y="1905120"/>
          <a:ext cx="4038480" cy="4527360"/>
        </p:xfrm>
        <a:graphic>
          <a:graphicData uri="http://schemas.openxmlformats.org/drawingml/2006/table">
            <a:tbl>
              <a:tblPr/>
              <a:tblGrid>
                <a:gridCol w="239760"/>
                <a:gridCol w="277920"/>
                <a:gridCol w="287280"/>
                <a:gridCol w="291960"/>
                <a:gridCol w="289080"/>
                <a:gridCol w="290520"/>
                <a:gridCol w="288720"/>
                <a:gridCol w="284400"/>
                <a:gridCol w="290520"/>
                <a:gridCol w="291960"/>
                <a:gridCol w="295200"/>
                <a:gridCol w="262080"/>
                <a:gridCol w="6490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4" descr="C:\Documents and Settings\Admin\Мои документы\Мои рисунки\4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62" name="Заголовок 1" descr=""/>
          <p:cNvPicPr/>
          <p:nvPr/>
        </p:nvPicPr>
        <p:blipFill>
          <a:blip r:embed="rId2"/>
          <a:stretch/>
        </p:blipFill>
        <p:spPr>
          <a:xfrm>
            <a:off x="469800" y="549360"/>
            <a:ext cx="8223480" cy="502920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4"/>
          <p:cNvSpPr/>
          <p:nvPr/>
        </p:nvSpPr>
        <p:spPr>
          <a:xfrm>
            <a:off x="357120" y="857160"/>
            <a:ext cx="65008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7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ahoma"/>
              </a:rPr>
              <a:t>Цель проекта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Выяснить, какое место в музыкальной культуре русских композиторов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XIX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начало 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XX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века занимают колокола и искусство колокольных зво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Picture 5" descr="C:\Documents and Settings\Admin\Мои документы\Мои рисунки\788.jpg"/>
          <p:cNvPicPr/>
          <p:nvPr/>
        </p:nvPicPr>
        <p:blipFill>
          <a:blip r:embed="rId1"/>
          <a:stretch/>
        </p:blipFill>
        <p:spPr>
          <a:xfrm>
            <a:off x="6429240" y="0"/>
            <a:ext cx="271476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Задачи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ahoma"/>
              </a:rPr>
              <a:t>Изучить литературу, материалы интернет - ресурсов о колоколах на Рус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Познакомиться с легендами и преданиями о колоколах и колокольном зво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ahoma"/>
              </a:rPr>
              <a:t>Раскрыть значение колокольного звона в музыке композиторов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XIX</a:t>
            </a:r>
            <a:r>
              <a:rPr b="1" lang="ru-RU" sz="2800" spc="-1" strike="noStrike">
                <a:solidFill>
                  <a:srgbClr val="00b050"/>
                </a:solidFill>
                <a:latin typeface="Tahoma"/>
              </a:rPr>
              <a:t> начало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XX</a:t>
            </a:r>
            <a:r>
              <a:rPr b="1" lang="ru-RU" sz="2800" spc="-1" strike="noStrike">
                <a:solidFill>
                  <a:srgbClr val="00b050"/>
                </a:solidFill>
                <a:latin typeface="Tahoma"/>
              </a:rPr>
              <a:t> 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Актуальност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обращение к музыке колоколов определяется её местом в современной жизни, связью с важнейшими тенденциями развития русской музы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0726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ahoma"/>
              </a:rPr>
              <a:t>Новизн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зучение колоколов вступило в новую фаз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Ассоциация  колокольного  искусства, созданная при Международном фонде культуры, способствует широкому распространению знаний о колоколах и колокольных звонах, возрождению профессии звонар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Объект исследования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00b050"/>
                </a:solidFill>
                <a:latin typeface="Tahoma"/>
              </a:rPr>
              <a:t>оперы русских композиторов  классиков,  в которых колокольностъ играет смыслообразующую рол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C:\Documents and Settings\Admin\Мои документы\Мои рисунки\br41.jpg"/>
          <p:cNvPicPr/>
          <p:nvPr/>
        </p:nvPicPr>
        <p:blipFill>
          <a:blip r:embed="rId1"/>
          <a:stretch/>
        </p:blipFill>
        <p:spPr>
          <a:xfrm>
            <a:off x="3857760" y="0"/>
            <a:ext cx="528624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</a:rPr>
              <a:t>I. </a:t>
            </a: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</a:rPr>
              <a:t>II. </a:t>
            </a: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Основная ча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</a:rPr>
              <a:t>III. </a:t>
            </a: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Введе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</a:rPr>
              <a:t>Колокола на России издревле пользовались особым почитанием. Одни из них были прославлены своим красивым звоном, другие вошли в историю из-за своей небывалой величины, третьи были накрепко связаны в народной памяти с какими-то драматическими или радостными событиями. Многие из них были настоящими шедеврами русского литейного дела. Во все времена наиболее почитаемы были те колокола, которые благодаря особому искусству мастера соединяли в себе и глубокое насыщенное звучание, и правильные гармоничные очертания, и благородную сдержанность укра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3:54:06Z</dcterms:created>
  <dc:creator>Пользователь</dc:creator>
  <dc:description/>
  <dc:language>en-US</dc:language>
  <cp:lastModifiedBy>Admin</cp:lastModifiedBy>
  <dcterms:modified xsi:type="dcterms:W3CDTF">2010-01-27T12:11:41Z</dcterms:modified>
  <cp:revision>90</cp:revision>
  <dc:subject/>
  <dc:title>Колокольные звоны в творчестве композиторов 18-19 веков</dc:title>
</cp:coreProperties>
</file>